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AD76-710B-4D57-A357-80B34AFC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4061-C82F-4E16-9EBC-22697676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C0A-A747-4ADE-87D0-9B27E253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E070-78F5-4669-A7DE-BCFC318F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DA6-5808-423B-95C8-5E4B4383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9F8D-38FD-463D-86D4-185E9163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2A6-A61A-45DC-ABF8-DDD40A652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A0EA-BBA2-4F37-B517-F2D3AA2B2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B03B-2C28-488D-801F-E8B3C83085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FAE6-0FCF-4212-AE5E-92497E1ECD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893B-884B-458C-B436-8021B3B1D6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3D47D-5693-4E44-9813-37476B4AB0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AB9B-4C7F-443D-BF21-FE98D632D6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5368-6C98-4C6D-AE35-19847A1F28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D368-92AE-4084-AAD5-E3B216372E1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FC62-A280-44EF-9140-D0F63B060A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DA35-644C-4D65-8F4F-FB1F31FCFA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33F7F-A299-4C47-AC6F-EF3E2CDC74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6AF65-680B-43DD-B467-D5A9AEC1A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608D-F669-4AFA-BCF8-8F44BD1395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8662C-9803-45FC-9215-A858BA4E65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67029-2C23-47E1-8398-036376DDB1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784EA-7320-493C-9FD7-8C4555A483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7190C-49A9-4549-8C21-51965C51FF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C0580-4DC8-47F6-94AD-75A896B42D8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E2271-2C16-4C63-A1FA-276F4419604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5649E-C6EE-40D6-9358-73EF6FF1BB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D9D57-751F-43DD-965B-CF46680AEF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4297F-E01B-4E8D-AC57-9F29BC096C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D8CF1-F5AC-409F-9372-8534E0AFB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1961-C0BB-4FC8-BC3A-FD5BC1501A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21BB8-91E2-4989-8202-5B6F344627D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2472D4-4D98-4155-AD30-622D0379F5F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C26699-5FB3-497B-97F3-0DA112FCD7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4D249E-6828-4088-89D7-6409FBC34D2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5A755-1772-4373-BEEB-B60976E363E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7DCB6-934B-498B-A4B1-D10F978C48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EEE11-0504-4C56-A4BA-C0B9004698F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8E0A17-DD5C-4359-8669-14E0FE0D408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680F8-6C9D-4AD2-8E93-6986DAACF5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04E17-7442-4784-8690-BE7431AD4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D196E-8B5A-439C-BB15-0543A07C5D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9F926-206B-4916-83F9-806F5D556D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C62E62-61F6-48F6-8066-B63832DDF2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56E7B1-85A3-4BB7-BB41-EA6A448094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7A661-2F3E-4DE2-A414-28C952D2AC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4F53-5D41-402E-93C3-7645307E82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7AAC-809F-4D5E-8831-48C4E9A21B0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8E0F0-E7C7-4232-9236-DA29F45973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9F50-D65A-4D04-8FDE-518E853CF53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93E4D-4EEF-41FB-B3A6-00392D658C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989E-2EB2-4C73-B4C4-D7F0DE34C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DC1A-79A9-452C-9615-4B9360CC2B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788E-4830-45CD-A9FD-4051C870A2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37307-D105-4AC6-9352-A0A5092CFB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C730-C19E-4AC7-A59D-E9EC0E2E369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8EB99-1DF7-42BB-A186-1B964A99E7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0EE5-9FFF-4B17-A7D7-8017D77814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81DD-7395-4851-A89E-151750BC97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184CE-A594-4399-95F9-284945017B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FB4C3-9030-4D0D-903C-0398D54B67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D0F4C-6B40-4843-93D8-4EE9267F9D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22374-8740-4816-8E0D-F3B9FCD6B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C249-F64A-4B8D-BDDB-93BEEC0F0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15B7-D6B0-4B62-A95E-3AEA3461A3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90EB-2FA2-424D-95A2-E821597615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A3800-6430-4EBA-BD02-23C0172975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0B8FE-F071-4C06-B982-4E1CF0BDB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BC6AF-7BF9-4447-B836-0FD02F5A01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7598-0B81-4C9B-8104-5A6BAF4ADD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418A-97A9-464C-BB05-146C27715F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F381-55AA-42CE-8DD1-70ADE6ED90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7F74-D5F4-46A2-81C3-72C1C34E81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6DE8-14D5-420F-B9A1-C48E6DF98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3A7D-9D20-4781-872C-7EFABBEB66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672-0382-4695-85F2-50655CBCF5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0016-46C6-4870-8073-20CBFF53B4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C57-11FA-4A5C-B9B1-1988B2A2A8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333B-DC33-4047-9088-50C6B4B8A6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C6AC-9CDE-45DB-8994-68F2CC8022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5CF-F4CA-48A0-9517-B80F933BD7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E54C-6998-4022-B1B6-E49EA87E0A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84AB5-6A7F-44FF-8085-6FF542168A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FAAF4-6F36-41B2-97C8-CA25A77F50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965D7-05FA-48F9-8285-B361CB458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433A-6216-416C-935C-FD44B7620A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3D71A-EBD7-4D16-9BF5-6F5551AE04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F3E41-5435-41A2-B237-756ED89604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9DA65-3004-4B21-93CE-13856C64B3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F67C5-D30E-438C-98CC-EB1D64FA2F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71779-C9D6-4175-B1A7-E57B9ED37D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8501A-CEBD-46F0-ACD8-9B1BC0B09B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1DA32-4F5C-438F-8139-0FFD258ACD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68151-6AA0-45C4-957A-0F29E1FF2A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0AEB7-B549-4C7E-81F9-400C165196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B58F5-8E8F-40DE-B045-1F732AC53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9321-6DE1-48B0-86AA-6901E0AEF5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7AC23-5140-4403-8DC6-137AB52533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DE41A-D7D0-4FC4-B002-64115B4B89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D3A4B-055A-400A-9C61-6163EE28A2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69A0F-1EE2-48BB-AE48-FE0FE670FE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8F628-DBF3-4F66-A957-B933C5AE8B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A62A3-6B07-47E2-9484-D88905D09A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867FB-1399-45FF-90AE-8C69FFFDD7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4DEB5-B439-4014-93BB-FAD2A456A7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3F05C-7723-47FE-81ED-98ECBCC44A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5A948-737B-46D6-80D6-12CE5889E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DA30-8016-4B60-95CA-0B35B01C01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483E4-394A-47EE-8B00-67CA7B975F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CEDE-82C9-4166-B58C-7A00A1B8E3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16A3-52F6-4497-9A33-13156FDF3B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8CED-96D2-4595-81ED-08743C7DC0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09B7-40C5-4EDB-9265-43EF4185D5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F12F-C7A2-4BA7-90A6-BC1AE8E7D6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3C5C-D668-43DC-89EB-B91DDE9F48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F671-C699-40C0-B2FB-96EAA9C321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80C1-7589-4D91-8FA1-4058C664AE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E233-DDF6-48B0-AA60-84148BD48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5FBE-A38A-45C0-8B19-15C9C9CBEA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88F3-4F61-44E2-94EC-B8B87D56D0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35BE-7334-447F-94F3-40F221A31A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6C97-6A0C-47EC-8DBB-D6BD7D9546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21D42-ABA0-402F-8E5F-2F7C0267D6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CB353-1468-4028-985D-6A69BA701F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A94F4-232F-44D0-928B-817336A991B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9512B-5A5E-4E70-922C-36F8E84B31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C4DBF-5979-4391-A6FC-B20607642B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6CBC0-F230-4900-A04C-34ADA2D185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69F12-8A04-4AB4-AD39-42060C587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BFE7-ECD9-4DC8-8746-14B91A6B6A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6AEEF-8D8D-470F-8F75-EC71722C2A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F6CAB-505B-49FB-9231-A867C31131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1114D-34FC-4AB1-B417-9B229063EB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F36B9-7ABF-4263-BA73-3D9681A8A5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BBE51-8DA1-4A9F-8FFF-C7BEBF2214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551560-66BD-4262-AADB-A35340181E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56DD4-07B8-48C6-9298-0960E00034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0D9E2-7541-47BE-832B-FD46B55C59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B33BC-F1E4-405F-A1AB-CCE460F3ED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F593D-E803-483A-9E3A-98CDA5D2C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B9BD-2A05-4334-9D23-6363F5DF75C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129484-FFA7-4118-977F-E0A9E694B0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967B7-0196-4537-8656-166B2C232C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53FE6-A2A7-42A1-B7A5-8A1EA1DB5A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71EDC-CB60-4FA8-BFB4-58B1702308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4AB31-CDAE-42F3-8F50-BF5E1BAFA1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DED9E-4EED-44C5-9D82-1D0C49EA6F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F48A1-1120-4D85-87F7-E4DFECE325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0C7AB-F3B1-4154-9D09-4A5CA5EC77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0EB5-6899-4CC4-864F-47681CEDAF9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5951-ACDF-477A-BA15-DB8898FAB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88335C52-F310-41E0-B827-00F1A537D7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EAFB943D-08D1-4D5E-BDE2-5C2194711E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63B2CB40-593F-49DA-B07F-DF683040FC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19CABB8F-7AC6-43D1-A3CD-ED1A896DBD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43C952AA-C73D-468F-8444-DA20AA3D50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B01BCE03-F8A8-4AB5-9247-A02554703B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1F439A69-F185-4B0E-89AB-C8C93330B5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C2C36C86-BF10-4EBE-B84B-DB93F33D20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DB4AA633-9EB0-4342-BFF2-367B880BDB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E3F8FAC6-B00A-4358-B577-D8698A2B03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FB0812A7-6162-4C7D-AFCE-60A47E60AC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2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2-</a:t>
            </a:r>
            <a:fld id="{3F3F84C9-1668-4D69-99C6-01E0BBF8E3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3549590F-D70F-451F-B229-A1AC205C8A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c01l02_p016_01"/>
          <p:cNvPicPr/>
          <p:nvPr/>
        </p:nvPicPr>
        <p:blipFill>
          <a:blip r:embed="rId1"/>
          <a:stretch/>
        </p:blipFill>
        <p:spPr>
          <a:xfrm>
            <a:off x="457200" y="1587600"/>
            <a:ext cx="82296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3A035B3A-B510-491C-B190-0685A2079A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numbers ending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ave more than one form. Before masculine nou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efore feminine nou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2_p016_02"/>
          <p:cNvPicPr/>
          <p:nvPr/>
        </p:nvPicPr>
        <p:blipFill>
          <a:blip r:embed="rId1"/>
          <a:stretch/>
        </p:blipFill>
        <p:spPr>
          <a:xfrm>
            <a:off x="457200" y="4038480"/>
            <a:ext cx="82296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856E8F30-0645-465C-918F-E4582BC93A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¡Atenció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when counting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tidó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). They are also used when 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llow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, even if the noun is feminin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lección u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69D3BEFC-39E2-40CA-81ED-18428E4F31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g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ánt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asculine noun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ánt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feminin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E58E3ED7-865B-4A5A-8BA5-E1B642E221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3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sh equivalent of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Hay...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re...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 there...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r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is 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c01l02_p016_03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247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c01l02_p016_04"/>
          <p:cNvPicPr/>
          <p:nvPr/>
        </p:nvPicPr>
        <p:blipFill>
          <a:blip r:embed="rId2"/>
          <a:stretch/>
        </p:blipFill>
        <p:spPr>
          <a:xfrm>
            <a:off x="457200" y="5041800"/>
            <a:ext cx="8229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2-</a:t>
            </a:r>
            <a:fld id="{51AFC914-CDF3-420A-894D-E3E72A38A9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703440" y="2184480"/>
          <a:ext cx="7738920" cy="2890800"/>
        </p:xfrm>
        <a:graphic>
          <a:graphicData uri="http://schemas.openxmlformats.org/drawingml/2006/table">
            <a:tbl>
              <a:tblPr/>
              <a:tblGrid>
                <a:gridCol w="1935000"/>
                <a:gridCol w="1935000"/>
                <a:gridCol w="1933560"/>
                <a:gridCol w="1935360"/>
              </a:tblGrid>
              <a:tr h="731880">
                <a:tc gridSpan="4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he Spanish words for these numb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9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15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3"/>
                        <a:tabLst>
                          <a:tab algn="l" pos="79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0:57Z</dcterms:modified>
  <cp:revision>48</cp:revision>
  <dc:subject/>
  <dc:title>PowerPoint Presentation</dc:title>
</cp:coreProperties>
</file>